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ECB-BE3B-4D26-9D87-43341B71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498-46DE-43C9-8981-5CEED2F6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ECD-CC6A-416A-845C-3B43BB35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831-FC14-4334-9053-54FCFC3B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F343-819D-4CE1-980C-A9A1274C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6ABC-5677-4FB4-AF11-90D0C13C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6E05-BD3F-4DBD-9F74-8FC907E1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5BAB-DBF0-44EB-BB75-0F209974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C9A9-4AFC-4A45-A1D6-3A8AE9C1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CE0C-B03E-4BA5-83F0-686310A9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6104-4871-42CE-96F8-98C54821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1F3-450F-411A-A004-781A3523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1EC7-0E2E-4E52-BA32-A86BFDE0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C3AE-7A7A-4E99-AEFC-D2BB8931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88B8-6B5C-4AF8-9574-2551C11B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D9ED-DB7D-4DA4-B158-5F0CB2FE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387F-DFFE-4231-AF02-0A8779C2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10E-502B-4CA2-9493-21900F4A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980-FED2-4129-AA4E-CCD02ACC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6A0-1F6B-4094-A02B-2A4DD143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C80-C34A-45A4-A4DE-524BC3A6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430-642E-49A7-938A-8B3B72F6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7C1-1B26-419C-AE48-6EC20468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ADAB-BD61-4A33-8BC7-7F81D307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6877-EEC4-4E7A-A18C-912713C8D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CC06-7DAD-4D67-8B35-DF1D602782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aking Action to save wate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By: Vivian P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20364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510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The Government Is Help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ing action on climate change- Global wa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ing advertisements to encourage people to save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ycling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ing healthy 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ng water supp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water wisely as it is very sca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262560" y="4862520"/>
            <a:ext cx="2881440" cy="1995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21964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5510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</a:t>
            </a: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You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 save wa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You can save water by Taking short sho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You can save water by turning the tap off when you brush your tee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You can save water by using the dish washer less of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You can save water by getting a dual flush toi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You can save water by finding out if you have a leek in your house, and fix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219640" y="4437000"/>
            <a:ext cx="1419120" cy="1594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71636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949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f you help save rivers our water will look like this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4036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551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nd this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27640" y="6958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551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f we don’t help our rivers, our water will look like this..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851280" y="724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909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nd This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13200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909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ae8"/>
                </a:solidFill>
                <a:latin typeface="Arial"/>
              </a:rPr>
              <a:t>Help the government cleanse the rivers and Thank You for watching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35600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5510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00:39:31Z</dcterms:created>
  <dc:creator>Primary School</dc:creator>
  <dc:description/>
  <cp:keywords/>
  <dc:language>en-US</dc:language>
  <cp:lastModifiedBy>Primary School</cp:lastModifiedBy>
  <dcterms:modified xsi:type="dcterms:W3CDTF">2009-06-30T23:54:57Z</dcterms:modified>
  <cp:revision>7</cp:revision>
  <dc:subject/>
  <dc:title>Taking Action to save wa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901033</vt:lpwstr>
  </property>
</Properties>
</file>